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D73-89A7-450F-8BD3-40D0E436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A25-D28D-42B4-8B01-E30FB80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371-250D-4E38-B0C2-E9BBE6ED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FF9-D952-48A9-90BA-0BD19E30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C7D-93F3-4DB1-AA27-9BFBDB0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5B8-5B61-4FD6-A756-683516A2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703-5D98-4A13-8B82-C1D9E9F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AD3-B15A-4DE7-B92A-CF61C17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F28-5044-4C80-B72A-F4C10BE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187-687F-409E-861C-34EE5AB3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997-DCAE-4DA7-B6B9-21B6927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841-4894-42C2-8A9C-4A832720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2E0C-2D53-4A52-B625-964CD33D3C1A}" type="datetime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i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B32-50EC-42E3-B1C2-D15196D1C76C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843280" y="1484280"/>
            <a:ext cx="63007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1f497d"/>
                </a:solidFill>
                <a:latin typeface="Georgia"/>
              </a:rPr>
              <a:t>ANAGEMENT</a:t>
            </a:r>
            <a:endParaRPr b="1" i="1" lang="en-US" sz="71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600200" y="1143000"/>
            <a:ext cx="129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1f497d"/>
                </a:solidFill>
                <a:latin typeface="Georgia"/>
              </a:rPr>
              <a:t>M</a:t>
            </a:r>
            <a:endParaRPr b="1" i="1" lang="en-US" sz="1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228600" y="2971800"/>
            <a:ext cx="4343400" cy="228600"/>
          </a:xfrm>
          <a:custGeom>
            <a:avLst/>
            <a:gdLst>
              <a:gd name="textAreaLeft" fmla="*/ 678600 w 4343400"/>
              <a:gd name="textAreaRight" fmla="*/ 4343400 w 4343400"/>
              <a:gd name="textAreaTop" fmla="*/ 3240 h 228600"/>
              <a:gd name="textAreaBottom" fmla="*/ 2253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338"/>
                </a:lnTo>
                <a:lnTo>
                  <a:pt x="3375" y="338"/>
                </a:lnTo>
                <a:lnTo>
                  <a:pt x="3375" y="21262"/>
                </a:lnTo>
                <a:lnTo>
                  <a:pt x="21600" y="21262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0"/>
                </a:lnTo>
                <a:close/>
              </a:path>
              <a:path w="21600" h="21600">
                <a:moveTo>
                  <a:pt x="1350" y="338"/>
                </a:moveTo>
                <a:lnTo>
                  <a:pt x="1350" y="21262"/>
                </a:lnTo>
                <a:lnTo>
                  <a:pt x="2700" y="21262"/>
                </a:lnTo>
                <a:lnTo>
                  <a:pt x="2700" y="338"/>
                </a:lnTo>
                <a:lnTo>
                  <a:pt x="1350" y="338"/>
                </a:lnTo>
                <a:close/>
              </a:path>
              <a:path w="21600" h="21600">
                <a:moveTo>
                  <a:pt x="0" y="338"/>
                </a:moveTo>
                <a:lnTo>
                  <a:pt x="0" y="21262"/>
                </a:lnTo>
                <a:lnTo>
                  <a:pt x="675" y="21262"/>
                </a:lnTo>
                <a:lnTo>
                  <a:pt x="675" y="338"/>
                </a:lnTo>
                <a:lnTo>
                  <a:pt x="0" y="338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 flipH="1">
            <a:off x="4647600" y="2971800"/>
            <a:ext cx="4343400" cy="228600"/>
          </a:xfrm>
          <a:custGeom>
            <a:avLst/>
            <a:gdLst>
              <a:gd name="textAreaLeft" fmla="*/ 678240 w 4343400"/>
              <a:gd name="textAreaRight" fmla="*/ 4343040 w 4343400"/>
              <a:gd name="textAreaTop" fmla="*/ 3240 h 228600"/>
              <a:gd name="textAreaBottom" fmla="*/ 2253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338"/>
                </a:lnTo>
                <a:lnTo>
                  <a:pt x="3375" y="338"/>
                </a:lnTo>
                <a:lnTo>
                  <a:pt x="3375" y="21262"/>
                </a:lnTo>
                <a:lnTo>
                  <a:pt x="21600" y="21262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0"/>
                </a:lnTo>
                <a:close/>
              </a:path>
              <a:path w="21600" h="21600">
                <a:moveTo>
                  <a:pt x="1350" y="338"/>
                </a:moveTo>
                <a:lnTo>
                  <a:pt x="1350" y="21262"/>
                </a:lnTo>
                <a:lnTo>
                  <a:pt x="2700" y="21262"/>
                </a:lnTo>
                <a:lnTo>
                  <a:pt x="2700" y="338"/>
                </a:lnTo>
                <a:lnTo>
                  <a:pt x="1350" y="338"/>
                </a:lnTo>
                <a:close/>
              </a:path>
              <a:path w="21600" h="21600">
                <a:moveTo>
                  <a:pt x="0" y="338"/>
                </a:moveTo>
                <a:lnTo>
                  <a:pt x="0" y="21262"/>
                </a:lnTo>
                <a:lnTo>
                  <a:pt x="675" y="21262"/>
                </a:lnTo>
                <a:lnTo>
                  <a:pt x="675" y="338"/>
                </a:lnTo>
                <a:lnTo>
                  <a:pt x="0" y="338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228600" y="5181480"/>
            <a:ext cx="8305920" cy="581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Georgia"/>
              </a:rPr>
              <a:t>  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391760" y="366840"/>
            <a:ext cx="3431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1f497d"/>
                </a:solidFill>
                <a:latin typeface="Georgia"/>
              </a:rPr>
              <a:t>ROJECT</a:t>
            </a:r>
            <a:endParaRPr b="1" i="1" lang="en-US" sz="71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452520" y="0"/>
            <a:ext cx="114300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1f497d"/>
                </a:solidFill>
                <a:latin typeface="Georgia"/>
              </a:rPr>
              <a:t>P</a:t>
            </a:r>
            <a:endParaRPr b="1" i="1" lang="en-US" sz="109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203720" y="536904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uhammad Tahir Nadeem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66840" y="1109520"/>
            <a:ext cx="845820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eece1"/>
                </a:solidFill>
                <a:uFillTx/>
                <a:latin typeface="Times New Roman"/>
              </a:rPr>
              <a:t>Scoping Document Example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2120" y="228600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/opportunity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name, sponsor, manager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roject Goal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that are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cific,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urable,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ignable,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listic,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 based (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SM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criteria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, risks, obstacle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ing the document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ort, and straight forward piece of information cov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o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o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provides if it is do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not use technical languag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28480" y="993600"/>
            <a:ext cx="8229600" cy="1752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Times New Roman"/>
              </a:rPr>
              <a:t>Scope the Project: </a:t>
            </a:r>
            <a:r>
              <a:rPr b="0" lang="en-US" sz="5400" spc="-1" strike="noStrike" u="sng">
                <a:solidFill>
                  <a:srgbClr val="eeece1"/>
                </a:solidFill>
                <a:uFillTx/>
                <a:latin typeface="Times New Roman"/>
              </a:rPr>
              <a:t>Problem/Opportunity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96760" y="33703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why the project should be accomplished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, Demand, Gap, Deficiency, Improvement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98400" y="966960"/>
            <a:ext cx="7772400" cy="99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eece1"/>
                </a:solidFill>
                <a:uFillTx/>
                <a:latin typeface="Times New Roman"/>
              </a:rPr>
              <a:t>Scope the Project - Goal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16040" y="235584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Georgia"/>
              </a:rPr>
              <a:t>A project has one primary goal: to give purpose and direction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s the final deliverable and outcome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tes in clear terms what is to be accomplished 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pe the Project –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ives &amp; Success Criteria</a:t>
            </a:r>
            <a:endParaRPr b="1" i="1" lang="en-US" sz="4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16040" y="649440"/>
            <a:ext cx="77724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MART Objectiv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cific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surabl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signabl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listic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me-related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uccess Criteria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arly states the bottom-line impa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ntifies outcomes so success can be measured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pe the Project: Assumptions, Risks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79440" y="619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factors that might affect the outcome or completion of the project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d to alert management to factors that may interfere with project work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 of assumptions and risk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chnologic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vironment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erson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ltur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itic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1079640"/>
          <a:ext cx="8126280" cy="4922640"/>
        </p:xfrm>
        <a:graphic>
          <a:graphicData uri="http://schemas.openxmlformats.org/drawingml/2006/table">
            <a:tbl>
              <a:tblPr/>
              <a:tblGrid>
                <a:gridCol w="2700360"/>
                <a:gridCol w="2819520"/>
                <a:gridCol w="2606400"/>
              </a:tblGrid>
              <a:tr h="6710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roject Scoping Form</a:t>
                      </a:r>
                      <a:endParaRPr b="1" i="1" lang="en-US" sz="3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roject Name</a:t>
                      </a:r>
                      <a:endParaRPr b="1" i="1" lang="en-US" sz="26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roject Manager</a:t>
                      </a:r>
                      <a:endParaRPr b="1" i="1" lang="en-US" sz="26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eam Members</a:t>
                      </a:r>
                      <a:endParaRPr b="1" i="1" lang="en-US" sz="26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roblem / Opportunity (Why do this project?):</a:t>
                      </a:r>
                      <a:endParaRPr b="1" i="1" lang="en-US" sz="24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88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roject Goal:</a:t>
                      </a:r>
                      <a:endParaRPr b="1" i="1" lang="en-US" sz="24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bjectives (Specific, Measurable, Assignable), Duration? Cost?</a:t>
                      </a:r>
                      <a:endParaRPr b="1" i="1" lang="en-US" sz="24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4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uccess Criteria (Outcomes):</a:t>
                      </a:r>
                      <a:endParaRPr b="1" i="1" lang="en-US" sz="24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ssumptions, Risks, Obstacles:</a:t>
                      </a:r>
                      <a:endParaRPr b="1" i="1" lang="en-US" sz="24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663480"/>
            <a:ext cx="8610480" cy="98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Georgia"/>
              </a:rPr>
              <a:t>Scope the Project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92200" y="1949400"/>
            <a:ext cx="7772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coping document for your project;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Construction of Computer Lab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3268800" y="2916360"/>
            <a:ext cx="2401920" cy="3103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426640" y="3657600"/>
            <a:ext cx="3222720" cy="673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eorgia"/>
              </a:rPr>
              <a:t>ACTIVITY #1</a:t>
            </a:r>
            <a:endParaRPr b="1" i="1" lang="en-US" sz="3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 lab with economy, accuracy and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sion of latest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nsure safety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use of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ill be able to operate hardware an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nline sear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research and assignment work at cam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re admissions in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re technology in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mprovement and development in I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05120" y="144792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266688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derstand the difference between a project and project management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 a working knowledge of how to properly develop a project for succes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 a Budget for a project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edule project activities using a Gantt chart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, Risks, Obstac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 of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 of staff and tra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of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enanc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Phases of Project Management</a:t>
            </a:r>
            <a:endParaRPr b="1" i="1" lang="en-US" sz="4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61520" y="1508040"/>
            <a:ext cx="177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Scoping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595920" y="2346480"/>
            <a:ext cx="193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416560" y="381636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416560" y="2216160"/>
            <a:ext cx="2502000" cy="901800"/>
          </a:xfrm>
          <a:prstGeom prst="rect">
            <a:avLst/>
          </a:prstGeom>
          <a:solidFill>
            <a:srgbClr val="1f497d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911240" y="145404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987560" y="305424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987560" y="442584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422600" y="1752480"/>
            <a:ext cx="228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705720" y="175248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498920" y="335268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781680" y="335268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3127320" y="411480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3127320" y="259092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3124080" y="259092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3124080" y="4114800"/>
            <a:ext cx="0" cy="37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52280" y="5334120"/>
            <a:ext cx="8801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apted from Weiss, J.W., and Wysocki, R.K. 1992.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5-Phase Project Management: 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A Practical Planning and Implementation Guide.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ing, MA: Addison Wesley.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562720" y="2286000"/>
            <a:ext cx="2198520" cy="8254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ing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2261880" y="1498680"/>
            <a:ext cx="16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Scoping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1981080" y="310824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unching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5486400" y="3870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itoring &amp;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1905120" y="4419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ing Out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veloping The Plan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670120" y="1577880"/>
            <a:ext cx="184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137280" y="2416320"/>
            <a:ext cx="184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705040" y="3178080"/>
            <a:ext cx="193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759040" y="4626000"/>
            <a:ext cx="193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029200" y="388620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/Analyz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Network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029200" y="228600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523880" y="152388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212840" y="3117960"/>
            <a:ext cx="2959200" cy="99036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577880" y="454968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e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Proposal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035600" y="182232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6318360" y="182232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184640" y="3422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6394320" y="342576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739960" y="418464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2739960" y="266076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736720" y="266076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736720" y="41846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1651320" y="1577880"/>
            <a:ext cx="224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 (WBS)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5255280" y="2263680"/>
            <a:ext cx="213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 Task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299960" y="3270240"/>
            <a:ext cx="29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Resourc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72880" y="1246320"/>
            <a:ext cx="8610840" cy="1371600"/>
          </a:xfrm>
          <a:prstGeom prst="rect">
            <a:avLst/>
          </a:prstGeom>
          <a:solidFill>
            <a:srgbClr val="edd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lanning the Project:</a:t>
            </a:r>
            <a:br>
              <a:rPr sz="4000"/>
            </a:b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Work Breakdown Structure (WBS) Contents, SOW, Steps, Milestone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49200" y="269388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WBS is the functional decomposition of a system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reaks the project into chunks of work at a level of detail that meets planning and scheduling need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s/alter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BS Example: Grocery Store</a:t>
            </a:r>
            <a:endParaRPr b="1" i="1" lang="en-US" sz="4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539720" y="428760"/>
            <a:ext cx="719784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e at h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(level 1 task)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Grocery List 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(level 2 task)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pantry for needed items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(level 3 task)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refrigerator for needed items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tems in refrigerator for expiration date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method of payment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to stor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method of transportation, e.g., car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route 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 to store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e at stor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method of holding groceries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for gathering groc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54120" y="990720"/>
            <a:ext cx="7772400" cy="99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Times New Roman"/>
              </a:rPr>
              <a:t>WBS Completeness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09480" y="2514600"/>
            <a:ext cx="7848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tatus/completion are measurable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early defined start/end events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ctivity has a deliverable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me/cost easily estimated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ctivity duration within acceptable limits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ork assignments are independent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28600" y="1447920"/>
            <a:ext cx="8534520" cy="76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eece1"/>
                </a:solidFill>
                <a:uFillTx/>
                <a:latin typeface="Times New Roman"/>
              </a:rPr>
              <a:t>Project Planning Activity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487692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work break down structure (WBS) for the project you identified in the scoping document.  Identify and sequence tasks.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191" name="Object 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962520" cy="257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89160" y="2862360"/>
            <a:ext cx="2579400" cy="550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ACTIVITY #2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693720"/>
            <a:ext cx="8153280" cy="1503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Times New Roman"/>
              </a:rPr>
              <a:t>Project Planning: Resources 5M 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295280" y="25909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n - skills and value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chinery/Equipment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28600" y="1828800"/>
            <a:ext cx="8534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ce1"/>
                </a:solidFill>
                <a:latin typeface="Times New Roman"/>
              </a:rPr>
              <a:t>Duration - Estimation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219320" y="2666880"/>
            <a:ext cx="6324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milarity to other activitie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istorical data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pert advice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Projects for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ncing of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odel Science exhibition in Scho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week Training workshop for Primary Teach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ment of Computer La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228600" y="1676520"/>
            <a:ext cx="876312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ece1"/>
                </a:solidFill>
                <a:latin typeface="Times New Roman"/>
              </a:rPr>
              <a:t>Duration Is a Cause of Variation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09480" y="28195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urces of variation: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rying skill level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expected event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iciency of work time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stakes and misunderstanding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200" name="Object 4" descr=""/>
          <p:cNvPicPr/>
          <p:nvPr/>
        </p:nvPicPr>
        <p:blipFill>
          <a:blip r:embed="rId1"/>
          <a:stretch/>
        </p:blipFill>
        <p:spPr>
          <a:xfrm>
            <a:off x="5181480" y="291456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1376280"/>
            <a:ext cx="7772400" cy="833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ece1"/>
                </a:solidFill>
                <a:latin typeface="Times New Roman"/>
              </a:rPr>
              <a:t>Resource Activity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85800" y="22860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all the resources required for each activity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stimate the duration of each task 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203" name="Object 4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700200" y="1049400"/>
            <a:ext cx="7772400" cy="99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ce1"/>
                </a:solidFill>
                <a:latin typeface="Times New Roman"/>
              </a:rPr>
              <a:t>Dependencies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2362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age between and among activities/task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ies create the backbone of the project network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3809880" y="3733920"/>
          <a:ext cx="2367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23670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762120" y="1523880"/>
            <a:ext cx="754380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ce1"/>
                </a:solidFill>
                <a:latin typeface="Times New Roman"/>
              </a:rPr>
              <a:t>Dependencies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25909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sh to start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cessor Task: A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or Task: B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ow head indicates dependency relationship:    Task B cannot begin until Task A is complete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0" y="3200400"/>
            <a:ext cx="1219320" cy="5032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1b00"/>
                </a:solidFill>
                <a:latin typeface="Georgia"/>
              </a:rPr>
              <a:t>A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6477120" y="3200400"/>
            <a:ext cx="1218960" cy="5032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1b00"/>
                </a:solidFill>
                <a:latin typeface="Georgia"/>
              </a:rPr>
              <a:t>B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5791320" y="3429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762120" y="1600200"/>
            <a:ext cx="76197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ece1"/>
                </a:solidFill>
                <a:latin typeface="Times New Roman"/>
              </a:rPr>
              <a:t>Gantt Chart</a:t>
            </a:r>
            <a:endParaRPr b="1" i="1" lang="en-US" sz="6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04920" y="2666880"/>
            <a:ext cx="8610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scheduling tool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information in WB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dependencies between tasks, personnel, and other resources allocation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progress towards completion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ilding a Gantt Chart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ll tasks and milestones from the WBS along the vertical axi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ime frame along the horizontal axi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371600" y="335268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371600" y="54100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429000"/>
            <a:ext cx="1218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1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2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371600" y="54864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Frame:   day 1 day 2 day3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4197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ilding a Gantt Chart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65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: Create box the length of each activity time duratio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activity one is scheduled from day1-day3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stones: Create a diamond on the day the milestone is scheduled to be completed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1374840" y="29718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374840" y="50292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450800" y="30481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1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2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37484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Frame:   day 1 day 2 day3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320364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4422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38131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259380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3736800" y="35053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279600" y="320040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4270320" y="3809880"/>
            <a:ext cx="380880" cy="381240"/>
          </a:xfrm>
          <a:prstGeom prst="diamond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ilding a Gantt Chart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776160" y="1403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ies: Show dependencies between activities with arrows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activity 2 cannot start until activity 1 is complete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371600" y="34290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1371600" y="54864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447920" y="3505320"/>
            <a:ext cx="1218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1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2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371600" y="5562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Frame:   day 1 day 2 day3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day 23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200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44197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3809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259092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3276720" y="3657600"/>
            <a:ext cx="3657600" cy="990360"/>
            <a:chOff x="3276720" y="3657600"/>
            <a:chExt cx="3657600" cy="990360"/>
          </a:xfrm>
        </p:grpSpPr>
        <p:sp>
          <p:nvSpPr>
            <p:cNvPr id="248" name="Rectangle 13"/>
            <p:cNvSpPr/>
            <p:nvPr/>
          </p:nvSpPr>
          <p:spPr>
            <a:xfrm>
              <a:off x="5029200" y="3962160"/>
              <a:ext cx="12956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3276720" y="365760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  <p:sp>
          <p:nvSpPr>
            <p:cNvPr id="250" name="AutoShape 15"/>
            <p:cNvSpPr/>
            <p:nvPr/>
          </p:nvSpPr>
          <p:spPr>
            <a:xfrm>
              <a:off x="6553440" y="4267080"/>
              <a:ext cx="380880" cy="380880"/>
            </a:xfrm>
            <a:prstGeom prst="diamond">
              <a:avLst/>
            </a:prstGeom>
            <a:solidFill>
              <a:srgbClr val="eddb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4572000" y="3733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>
              <a:off x="4800600" y="3733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48006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c0504d"/>
                </a:solidFill>
                <a:latin typeface="Times New Roman"/>
              </a:endParaRPr>
            </a:p>
          </p:txBody>
        </p:sp>
      </p:grpSp>
      <p:sp>
        <p:nvSpPr>
          <p:cNvPr id="254" name="Line 19"/>
          <p:cNvSpPr/>
          <p:nvPr/>
        </p:nvSpPr>
        <p:spPr>
          <a:xfrm>
            <a:off x="67057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gantt-exa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701b00"/>
            </a:solidFill>
            <a:miter/>
          </a:ln>
        </p:spPr>
      </p:pic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257" name="Picture 3" descr="Gantt Figure 4"/>
          <p:cNvPicPr/>
          <p:nvPr/>
        </p:nvPicPr>
        <p:blipFill>
          <a:blip r:embed="rId1"/>
          <a:srcRect l="5641" t="19200" r="15000" b="8800"/>
          <a:stretch/>
        </p:blipFill>
        <p:spPr>
          <a:xfrm>
            <a:off x="762120" y="1219320"/>
            <a:ext cx="7162560" cy="4865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3049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Gantt Chart – Example </a:t>
            </a:r>
            <a:endParaRPr b="1" i="1" lang="en-US" sz="6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581280" y="6248520"/>
            <a:ext cx="5562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stimated time to complete a task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H="1" flipV="1">
            <a:off x="3352320" y="6081840"/>
            <a:ext cx="228600" cy="24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 rot="16218000">
            <a:off x="-571320" y="354276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asks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838080" y="3809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867280" y="4343400"/>
            <a:ext cx="2210040" cy="90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Bars indicate time requirement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>
            <a:off x="4876560" y="4710240"/>
            <a:ext cx="950760" cy="498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553080" y="1676520"/>
            <a:ext cx="24386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Arrows indicate task dependencies: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Predecessor task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eece1"/>
                </a:solidFill>
                <a:latin typeface="Times New Roman"/>
              </a:rPr>
              <a:t>Successor task</a:t>
            </a:r>
            <a:endParaRPr b="1" i="1" lang="en-US" sz="2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 flipH="1" flipV="1">
            <a:off x="4495680" y="2119320"/>
            <a:ext cx="1905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 flipH="1">
            <a:off x="6095880" y="2957400"/>
            <a:ext cx="3254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>
            <a:off x="5714640" y="29718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14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 project is a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sequence of unique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complex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, and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connected activities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having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one goal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or purpose and that must be completed by a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specific tim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within budget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, and </a:t>
            </a:r>
            <a:r>
              <a:rPr b="0" i="1" lang="en-US" sz="3600" spc="-1" strike="noStrike">
                <a:solidFill>
                  <a:srgbClr val="1f497d"/>
                </a:solidFill>
                <a:latin typeface="Georgia"/>
              </a:rPr>
              <a:t>according to specifications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i="1" lang="en-US" sz="36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00200" y="1181160"/>
            <a:ext cx="7772400" cy="1008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What is a Project?</a:t>
            </a:r>
            <a:endParaRPr b="1" i="1" lang="en-US" sz="60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31880" y="1170000"/>
            <a:ext cx="75438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Times New Roman"/>
              </a:rPr>
              <a:t>Responsibility Matrix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98360" y="216072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accountability by assigning each task to a person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93880" y="2998800"/>
          <a:ext cx="6781680" cy="2708280"/>
        </p:xfrm>
        <a:graphic>
          <a:graphicData uri="http://schemas.openxmlformats.org/drawingml/2006/table">
            <a:tbl>
              <a:tblPr/>
              <a:tblGrid>
                <a:gridCol w="1849320"/>
                <a:gridCol w="1541520"/>
                <a:gridCol w="1695240"/>
                <a:gridCol w="1695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e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1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2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3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i="1" lang="en-US" sz="2800" spc="-1" strike="noStrike">
                        <a:solidFill>
                          <a:srgbClr val="c050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609480" y="1523880"/>
            <a:ext cx="7772400" cy="76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Times New Roman"/>
              </a:rPr>
              <a:t>Gantt Chart Activity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 the WBS (tasks, durations, and dependencies) create 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antt Char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ponsibility Matri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809880" cy="2474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405000" y="2666880"/>
            <a:ext cx="2579400" cy="550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ACTIVITY #3</a:t>
            </a:r>
            <a:endParaRPr b="1" i="1" lang="en-US" sz="30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  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914400" y="25146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s are oriented towards a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omething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bout every project.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s have a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uration.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s require coordination of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terre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ctivities.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426360" y="2641680"/>
            <a:ext cx="8632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483080" y="3200400"/>
            <a:ext cx="1270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848040" y="4267080"/>
            <a:ext cx="9907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206360" y="5346720"/>
            <a:ext cx="2057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8600" y="1523880"/>
            <a:ext cx="8534520" cy="825120"/>
          </a:xfrm>
          <a:prstGeom prst="rect">
            <a:avLst/>
          </a:prstGeom>
          <a:solidFill>
            <a:srgbClr val="edd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b00"/>
                </a:solidFill>
                <a:latin typeface="Times New Roman"/>
              </a:rPr>
              <a:t>Project Management Criteria</a:t>
            </a:r>
            <a:endParaRPr b="1" i="1" lang="en-US" sz="4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066680" y="21337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 is a set of principles and tools for</a:t>
            </a:r>
            <a:endParaRPr b="1" i="1" lang="en-US" sz="36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ng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  . . . and 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7520" y="1123920"/>
            <a:ext cx="8610480" cy="764280"/>
          </a:xfrm>
          <a:prstGeom prst="rect">
            <a:avLst/>
          </a:prstGeom>
          <a:solidFill>
            <a:srgbClr val="edd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701b00"/>
                </a:solidFill>
                <a:uFillTx/>
                <a:latin typeface="Times New Roman"/>
              </a:rPr>
              <a:t>What is Project Management?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22860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 your Method towards Goa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credible schedule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progress and control your project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where to focus your efforts 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s early – before they are crises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s you TIME….MONEY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0504d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fail to plan,  PLAN TO FAIL</a:t>
            </a:r>
            <a:endParaRPr b="1" i="1" lang="en-US" sz="2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8600" y="1600200"/>
            <a:ext cx="8610480" cy="642600"/>
          </a:xfrm>
          <a:prstGeom prst="rect">
            <a:avLst/>
          </a:prstGeom>
          <a:solidFill>
            <a:srgbClr val="edd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1b00"/>
                </a:solidFill>
                <a:uFillTx/>
                <a:latin typeface="Times New Roman"/>
              </a:rPr>
              <a:t>Why is Project Management Important?</a:t>
            </a:r>
            <a:endParaRPr b="1" i="1" lang="en-US" sz="36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Phases of Project Management</a:t>
            </a:r>
            <a:endParaRPr b="1" i="1" lang="en-US" sz="40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7240" y="1046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87000" y="1182600"/>
            <a:ext cx="177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Scoping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52608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42040" y="3490920"/>
            <a:ext cx="2501640" cy="9018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342040" y="1890720"/>
            <a:ext cx="2501640" cy="9018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836720" y="1128600"/>
            <a:ext cx="2502000" cy="901800"/>
          </a:xfrm>
          <a:prstGeom prst="rect">
            <a:avLst/>
          </a:prstGeom>
          <a:solidFill>
            <a:srgbClr val="1f497d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913040" y="2728800"/>
            <a:ext cx="250164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913040" y="4100400"/>
            <a:ext cx="250164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4348080" y="142704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6630840" y="142704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4424400" y="302724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6707160" y="302724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3052800" y="378936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3052800" y="226548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049560" y="226548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49560" y="3789360"/>
            <a:ext cx="0" cy="37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152280" y="5334120"/>
            <a:ext cx="8801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apted from Weiss, J.W., and Wysocki, R.K. 1992.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5-Phase Project Management: 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A Practical Planning and Implementation Guide.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ing, MA: Addison Wesley.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5487840" y="1960560"/>
            <a:ext cx="21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ing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187360" y="1173240"/>
            <a:ext cx="16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oping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06560" y="2782800"/>
            <a:ext cx="2438280" cy="82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unching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lan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5411880" y="354492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ing &amp;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ling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830240" y="4094280"/>
            <a:ext cx="2514600" cy="82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osing Out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ject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coping The Project</a:t>
            </a:r>
            <a:endParaRPr b="1" i="1" lang="en-US" sz="5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997360" y="86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497640" y="322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56080" y="316872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56080" y="1568520"/>
            <a:ext cx="2502000" cy="901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927080" y="806400"/>
            <a:ext cx="2502000" cy="901800"/>
          </a:xfrm>
          <a:prstGeom prst="rect">
            <a:avLst/>
          </a:prstGeom>
          <a:solidFill>
            <a:srgbClr val="eddbc9"/>
          </a:solidFill>
          <a:ln w="12600">
            <a:solidFill>
              <a:srgbClr val="70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927080" y="2406600"/>
            <a:ext cx="2502000" cy="901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fine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ject Objectives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844640" y="3848040"/>
            <a:ext cx="2502000" cy="8384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438800" y="110484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6721560" y="110484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438800" y="270504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6721560" y="2705040"/>
            <a:ext cx="0" cy="45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067200" y="346716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3067200" y="1943280"/>
            <a:ext cx="2282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3063960" y="1946160"/>
            <a:ext cx="0" cy="45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3063960" y="346716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1844640" y="784080"/>
            <a:ext cx="2665440" cy="824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ate the Problem/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portunity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5655240" y="1622520"/>
            <a:ext cx="19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 the 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ject Goal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5497200" y="3238560"/>
            <a:ext cx="2148120" cy="82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dentify the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uccess Criteria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1917720" y="3848040"/>
            <a:ext cx="2390400" cy="82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ist Assumptions,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isks, Obstacles</a:t>
            </a:r>
            <a:endParaRPr b="1" i="1" lang="en-US" sz="24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0" y="474660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apted from Weiss, J.W., and Wysocki, R.K. 1992.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5-Phase Project Management: 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A Practical Planning and Implementation Guide.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ing, MA: Addison Wesley.</a:t>
            </a:r>
            <a:endParaRPr b="1" i="1" lang="en-US" sz="18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2:47:16Z</dcterms:created>
  <dc:creator>hoover</dc:creator>
  <dc:description/>
  <dc:language>en-US</dc:language>
  <cp:lastModifiedBy>SaaD</cp:lastModifiedBy>
  <dcterms:modified xsi:type="dcterms:W3CDTF">2019-11-04T06:18:32Z</dcterms:modified>
  <cp:revision>424</cp:revision>
  <dc:subject/>
  <dc:title>PowerPoint Presentation</dc:title>
</cp:coreProperties>
</file>